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E06-288F-4220-A24C-3B72611FFB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0D3E-8102-46CE-B686-D8C25DFD75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8F69-AAC7-46EC-9BC8-363BF97D17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CEE1-E126-4E9A-BAE3-6EB5004FC6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ED3-8E09-4D61-A58F-B81417B263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1CB-5579-4270-A28A-BBEA2A990A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C92-CB01-49E2-8BDF-77B565439E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A02-3AB4-4AEB-979E-4A095B2377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712B-95FD-4599-A2AF-4C757946FE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684-674A-42E5-9C36-9C7112C976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480-D531-4B4E-A0C6-BAAD095CF2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977-8D55-4D84-8DFB-6B8B9D956B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9">
            <a:hlinkClick r:id="" action="ppaction://hlinkshowjump?jump=previousslide"/>
          </p:cNvPr>
          <p:cNvSpPr/>
          <p:nvPr/>
        </p:nvSpPr>
        <p:spPr>
          <a:xfrm>
            <a:off x="58672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0">
            <a:hlinkClick r:id="" action="ppaction://hlinkshowjump?jump=nextslide"/>
          </p:cNvPr>
          <p:cNvSpPr/>
          <p:nvPr/>
        </p:nvSpPr>
        <p:spPr>
          <a:xfrm>
            <a:off x="67816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1">
            <a:hlinkClick r:id="" action="ppaction://hlinkshowjump?jump=endshow"/>
          </p:cNvPr>
          <p:cNvSpPr/>
          <p:nvPr/>
        </p:nvSpPr>
        <p:spPr>
          <a:xfrm>
            <a:off x="83059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2">
            <a:hlinkClick r:id="" action="ppaction://hlinkshowjump?jump=firstslide"/>
          </p:cNvPr>
          <p:cNvSpPr/>
          <p:nvPr/>
        </p:nvSpPr>
        <p:spPr>
          <a:xfrm>
            <a:off x="7467480" y="601668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3">
            <a:hlinkClick r:id="rId3"/>
          </p:cNvPr>
          <p:cNvSpPr/>
          <p:nvPr/>
        </p:nvSpPr>
        <p:spPr>
          <a:xfrm>
            <a:off x="4952880" y="6642000"/>
            <a:ext cx="749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stening and Speaking Workshop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7706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 and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04200" y="5886360"/>
            <a:ext cx="873000" cy="971640"/>
          </a:xfrm>
          <a:custGeom>
            <a:avLst/>
            <a:gdLst>
              <a:gd name="textAreaLeft" fmla="*/ 56520 w 873000"/>
              <a:gd name="textAreaRight" fmla="*/ 816480 w 873000"/>
              <a:gd name="textAreaTop" fmla="*/ 56520 h 971640"/>
              <a:gd name="textAreaBottom" fmla="*/ 915120 h 971640"/>
            </a:gdLst>
            <a:ahLst/>
            <a:rect l="textAreaLeft" t="textAreaTop" r="textAreaRight" b="textAreaBottom"/>
            <a:pathLst>
              <a:path w="21600" h="24040">
                <a:moveTo>
                  <a:pt x="0" y="0"/>
                </a:moveTo>
                <a:lnTo>
                  <a:pt x="21600" y="0"/>
                </a:lnTo>
                <a:lnTo>
                  <a:pt x="21600" y="24040"/>
                </a:lnTo>
                <a:lnTo>
                  <a:pt x="0" y="24040"/>
                </a:lnTo>
                <a:close/>
              </a:path>
              <a:path fill="lightenLess" w="21600" h="240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0">
                <a:moveTo>
                  <a:pt x="21600" y="0"/>
                </a:moveTo>
                <a:lnTo>
                  <a:pt x="21600" y="24040"/>
                </a:lnTo>
                <a:lnTo>
                  <a:pt x="20200" y="22640"/>
                </a:lnTo>
                <a:lnTo>
                  <a:pt x="20200" y="1400"/>
                </a:lnTo>
                <a:close/>
              </a:path>
              <a:path fill="darkenLess" w="21600" h="24040">
                <a:moveTo>
                  <a:pt x="21600" y="24040"/>
                </a:moveTo>
                <a:lnTo>
                  <a:pt x="0" y="24040"/>
                </a:lnTo>
                <a:lnTo>
                  <a:pt x="1400" y="22640"/>
                </a:lnTo>
                <a:lnTo>
                  <a:pt x="20200" y="22640"/>
                </a:lnTo>
                <a:close/>
              </a:path>
              <a:path fill="lighten" w="21600" h="24040">
                <a:moveTo>
                  <a:pt x="0" y="240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067440" y="5894280"/>
            <a:ext cx="873000" cy="963720"/>
          </a:xfrm>
          <a:custGeom>
            <a:avLst/>
            <a:gdLst>
              <a:gd name="textAreaLeft" fmla="*/ 56520 w 873000"/>
              <a:gd name="textAreaRight" fmla="*/ 816480 w 873000"/>
              <a:gd name="textAreaTop" fmla="*/ 56520 h 963720"/>
              <a:gd name="textAreaBottom" fmla="*/ 907200 h 963720"/>
            </a:gdLst>
            <a:ahLst/>
            <a:rect l="textAreaLeft" t="textAreaTop" r="textAreaRight" b="textAreaBottom"/>
            <a:pathLst>
              <a:path w="21600" h="23844">
                <a:moveTo>
                  <a:pt x="0" y="0"/>
                </a:moveTo>
                <a:lnTo>
                  <a:pt x="21600" y="0"/>
                </a:lnTo>
                <a:lnTo>
                  <a:pt x="21600" y="23844"/>
                </a:lnTo>
                <a:lnTo>
                  <a:pt x="0" y="23844"/>
                </a:lnTo>
                <a:close/>
              </a:path>
              <a:path fill="lightenLess" w="21600" h="23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44">
                <a:moveTo>
                  <a:pt x="21600" y="0"/>
                </a:moveTo>
                <a:lnTo>
                  <a:pt x="21600" y="23844"/>
                </a:lnTo>
                <a:lnTo>
                  <a:pt x="20200" y="22444"/>
                </a:lnTo>
                <a:lnTo>
                  <a:pt x="20200" y="1400"/>
                </a:lnTo>
                <a:close/>
              </a:path>
              <a:path fill="darkenLess" w="21600" h="23844">
                <a:moveTo>
                  <a:pt x="21600" y="23844"/>
                </a:moveTo>
                <a:lnTo>
                  <a:pt x="0" y="23844"/>
                </a:lnTo>
                <a:lnTo>
                  <a:pt x="1400" y="22444"/>
                </a:lnTo>
                <a:lnTo>
                  <a:pt x="20200" y="22444"/>
                </a:lnTo>
                <a:close/>
              </a:path>
              <a:path fill="lighten" w="21600" h="23844">
                <a:moveTo>
                  <a:pt x="0" y="23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28480" y="1370160"/>
            <a:ext cx="831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ogical and Emotional App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appeal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speak to readers’ common sense and logi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28480" y="2824200"/>
            <a:ext cx="73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motional appeal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aimed at readers’ hearts. They stir up feelings such as fear, sympathy, and pri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360520" y="2552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4119480" y="3840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5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apt Your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28480" y="1370160"/>
            <a:ext cx="8282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ause-and-Effect Clue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ause-and-effect clue words to make clear the relationship between the situation and its causes and eff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232080" y="503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3327480"/>
          <a:ext cx="8076960" cy="1025280"/>
        </p:xfrm>
        <a:graphic>
          <a:graphicData uri="http://schemas.openxmlformats.org/drawingml/2006/table">
            <a:tbl>
              <a:tblPr/>
              <a:tblGrid>
                <a:gridCol w="2305080"/>
                <a:gridCol w="3252600"/>
                <a:gridCol w="25192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s a 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ther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4" descr=""/>
          <p:cNvPicPr/>
          <p:nvPr/>
        </p:nvPicPr>
        <p:blipFill>
          <a:blip r:embed="rId2"/>
          <a:stretch/>
        </p:blipFill>
        <p:spPr>
          <a:xfrm>
            <a:off x="2720880" y="2886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6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28480" y="1370160"/>
            <a:ext cx="79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overall structure of your speech will look something like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528480" y="2654280"/>
            <a:ext cx="22860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Attention-Grab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Opinion Sta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3162240" y="2641680"/>
            <a:ext cx="27558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1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Each wit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6324480" y="2654280"/>
            <a:ext cx="22860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Restatement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of Opin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Call to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540480" y="55879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55" descr=""/>
          <p:cNvPicPr/>
          <p:nvPr/>
        </p:nvPicPr>
        <p:blipFill>
          <a:blip r:embed="rId1"/>
          <a:stretch/>
        </p:blipFill>
        <p:spPr>
          <a:xfrm>
            <a:off x="3909960" y="201780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 have limited time to present your mater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28480" y="19270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clude only the most compelling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28480" y="248904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sure your evidence, as well as all you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reasoning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relev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8480" y="3416400"/>
            <a:ext cx="8082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the most effectiv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Logical and Emotional App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28480" y="43419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ppeals that best suit your listening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8143920" y="165276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8391600" y="2209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6146640" y="31305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4"/>
          <a:stretch/>
        </p:blipFill>
        <p:spPr>
          <a:xfrm>
            <a:off x="7640640" y="4156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7"/>
          <p:cNvSpPr/>
          <p:nvPr/>
        </p:nvSpPr>
        <p:spPr>
          <a:xfrm>
            <a:off x="528480" y="282240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create notes on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28480" y="3376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tent of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528480" y="3933720"/>
            <a:ext cx="49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erbal and nonverbal techniques you will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ep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prepare a memoriz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ormal speech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rst make a careful outli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3" descr=""/>
          <p:cNvPicPr/>
          <p:nvPr/>
        </p:nvPicPr>
        <p:blipFill>
          <a:blip r:embed="rId1"/>
          <a:stretch/>
        </p:blipFill>
        <p:spPr>
          <a:xfrm>
            <a:off x="4383000" y="2552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"/>
          <a:stretch/>
        </p:blipFill>
        <p:spPr>
          <a:xfrm>
            <a:off x="4807080" y="3106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3"/>
          <a:stretch/>
        </p:blipFill>
        <p:spPr>
          <a:xfrm>
            <a:off x="4807080" y="3651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c10lsw005"/>
          <p:cNvPicPr/>
          <p:nvPr/>
        </p:nvPicPr>
        <p:blipFill>
          <a:blip r:embed="rId4"/>
          <a:stretch/>
        </p:blipFill>
        <p:spPr>
          <a:xfrm>
            <a:off x="5943600" y="2514600"/>
            <a:ext cx="2432160" cy="333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28480" y="1370160"/>
            <a:ext cx="837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Verbal 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nounce words clearly and carefully. (In other words, use good diction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28480" y="28224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just your pitch to show certain feel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28480" y="3386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nge the volume or tone of your voice to stress key points, capture attention, or convey a m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528480" y="46702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pauses to let your ideas sink i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5240160" y="257184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"/>
          <p:cNvPicPr/>
          <p:nvPr/>
        </p:nvPicPr>
        <p:blipFill>
          <a:blip r:embed="rId2"/>
          <a:stretch/>
        </p:blipFill>
        <p:spPr>
          <a:xfrm>
            <a:off x="790272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"/>
          <p:cNvPicPr/>
          <p:nvPr/>
        </p:nvPicPr>
        <p:blipFill>
          <a:blip r:embed="rId3"/>
          <a:stretch/>
        </p:blipFill>
        <p:spPr>
          <a:xfrm>
            <a:off x="2568600" y="44067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28480" y="1370160"/>
            <a:ext cx="808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nverbal 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natural gestures (for example, a shoulder shrug or a head nod) to emphasize emotions or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28480" y="41115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eye contact with your audience members to convey confidence and since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28480" y="3200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facial expressions such as smiles and frowns to clue listeners in to your feel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2220840" y="29224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7831080" y="38433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28480" y="1370160"/>
            <a:ext cx="808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ehear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your notes to rehearse your speech until you feel you can deliver it smoothly and effectively. You can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8480" y="31989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front of a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520" y="375120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fore an audi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8480" y="43020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 a video 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28480" y="48531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 an audio recor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540480" y="55879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7" descr=""/>
          <p:cNvPicPr/>
          <p:nvPr/>
        </p:nvPicPr>
        <p:blipFill>
          <a:blip r:embed="rId1"/>
          <a:stretch/>
        </p:blipFill>
        <p:spPr>
          <a:xfrm>
            <a:off x="3381480" y="29336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2"/>
          <a:stretch/>
        </p:blipFill>
        <p:spPr>
          <a:xfrm>
            <a:off x="4219560" y="3444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"/>
          <p:cNvPicPr/>
          <p:nvPr/>
        </p:nvPicPr>
        <p:blipFill>
          <a:blip r:embed="rId3"/>
          <a:stretch/>
        </p:blipFill>
        <p:spPr>
          <a:xfrm>
            <a:off x="4273560" y="4002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4"/>
          <a:stretch/>
        </p:blipFill>
        <p:spPr>
          <a:xfrm>
            <a:off x="4375080" y="4557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c10lsw006"/>
          <p:cNvPicPr/>
          <p:nvPr/>
        </p:nvPicPr>
        <p:blipFill>
          <a:blip r:embed="rId5"/>
          <a:srcRect l="0" t="5504" r="0" b="27282"/>
          <a:stretch/>
        </p:blipFill>
        <p:spPr>
          <a:xfrm>
            <a:off x="5511960" y="2998800"/>
            <a:ext cx="2543040" cy="234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93364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811840" y="6032520"/>
            <a:ext cx="1751040" cy="825480"/>
          </a:xfrm>
          <a:custGeom>
            <a:avLst/>
            <a:gdLst>
              <a:gd name="textAreaLeft" fmla="*/ 53280 w 1751040"/>
              <a:gd name="textAreaRight" fmla="*/ 1697760 w 175104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45808" h="21600">
                <a:moveTo>
                  <a:pt x="0" y="0"/>
                </a:moveTo>
                <a:lnTo>
                  <a:pt x="45808" y="0"/>
                </a:lnTo>
                <a:lnTo>
                  <a:pt x="45808" y="21600"/>
                </a:lnTo>
                <a:lnTo>
                  <a:pt x="0" y="21600"/>
                </a:lnTo>
                <a:close/>
              </a:path>
              <a:path fill="lightenLess" w="45808" h="21600">
                <a:moveTo>
                  <a:pt x="0" y="0"/>
                </a:moveTo>
                <a:lnTo>
                  <a:pt x="45808" y="0"/>
                </a:lnTo>
                <a:lnTo>
                  <a:pt x="44408" y="1400"/>
                </a:lnTo>
                <a:lnTo>
                  <a:pt x="1400" y="1400"/>
                </a:lnTo>
                <a:close/>
              </a:path>
              <a:path fill="darken" w="45808" h="21600">
                <a:moveTo>
                  <a:pt x="45808" y="0"/>
                </a:moveTo>
                <a:lnTo>
                  <a:pt x="45808" y="21600"/>
                </a:lnTo>
                <a:lnTo>
                  <a:pt x="44408" y="20200"/>
                </a:lnTo>
                <a:lnTo>
                  <a:pt x="44408" y="1400"/>
                </a:lnTo>
                <a:close/>
              </a:path>
              <a:path fill="darkenLess" w="45808" h="21600">
                <a:moveTo>
                  <a:pt x="45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08" y="20200"/>
                </a:lnTo>
                <a:close/>
              </a:path>
              <a:path fill="lighten" w="45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8480" y="24732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3880" y="3151080"/>
            <a:ext cx="77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28480" y="1370160"/>
            <a:ext cx="80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 and Countercl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ticipate and address your audience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28480" y="302580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claims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counterarguments (idea or belief held by your listeners that contradicts or opposes your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6864480" y="2197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2828880" y="274464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1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Dan Olsen</cp:lastModifiedBy>
  <cp:lastPrinted>2004-12-14T19:41:04Z</cp:lastPrinted>
  <dcterms:modified xsi:type="dcterms:W3CDTF">2012-01-14T20:38:17Z</dcterms:modified>
  <cp:revision>427</cp:revision>
  <dc:subject/>
  <dc:title>Slide 1</dc:title>
</cp:coreProperties>
</file>